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262-D4EE-432A-AF6A-00822B1A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971-4CD7-4680-9C70-B0FF3091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F23-6489-4F42-B5CD-E1E5520F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DF5-AA75-4E93-8174-271DC2F3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6D89A-A3F8-4B4A-B735-30EA98BC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948EB-69E1-4563-9083-7E628F4B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05B0B-7955-4016-B900-42ACC550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CC61F-00FB-4AB8-99F9-70BAE3C5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4A40A-2513-4B76-9414-989D3594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563DB-8FA0-4DE2-8D57-C1341FF3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DC52E-78E8-46E5-BC36-FCD734F0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4D5-C705-4372-9E1C-B1C138AF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AFB51-0CB9-4FD8-9D26-0EC6BE9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C9344-3C0E-46F1-93E0-F7BC458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C5FE3-4C76-44AF-BD69-A1BED6C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87B81-BE6B-4573-B698-EF13E339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37420-9803-4CA7-9980-19F10372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EDA0-E738-4659-B3D7-D70B94FF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7305-03F8-48A0-BCB6-C2F92CF7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7E0E-AB5F-4422-9F08-E2BD4CD1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7EB7-D817-47AF-A87B-90A243AD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806B-C0D5-43A2-8A3C-B4B429C0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141-D530-4094-8157-25C690FA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82662-3635-4648-A2BE-F10E1D0D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C418-3B95-4A0B-B22B-6E2C72C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316C-5399-497B-A9EF-F3EF198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AFC6-2BA0-44FD-9292-568E497F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6026-1FF9-447E-B35E-EE92A23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830C-08F5-411A-9D0B-D4D3D1F7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738E-9169-4FF0-962F-C13CCD62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A3F3E-1BEC-4AAB-8046-13BCB41D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E61EA-A6D2-431E-B99E-1DFA2BAE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F3A4C-E961-4777-9540-BC348EE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431-1F20-406E-96D9-9BCD9240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18E82-C193-4784-BB76-A0BC38DB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B5BF9-57D6-4F10-BFC0-84E6B25E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977F4-4336-486A-B793-47165AE4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772BD-1E5D-444D-8539-BD14A00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AE20E-4279-4456-B64D-8405C37B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77A87-F075-4143-B25B-6C683286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A4818-00BC-4265-807D-0A049A28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8D9306-3B0C-4935-9EF2-C626F92A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633E49-8D1A-4A8B-B8C7-C2727407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97CA6-0E10-458E-9F61-A0D4B4E5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13C-40F2-4A09-8386-9FC06AD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D87FA-C566-441F-9549-37C6BCB3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4EDD5-103B-41C7-8CF4-FFCD6440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E718A-569B-401F-9C3B-46868DDA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8CD1E-1B3D-4ADD-94B7-DEEFC982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7D593-0689-45F8-9108-548228C9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26C8D-5640-4D66-843A-F107F241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C9FF9-88E3-4B97-A450-693C6BF8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7D443-28B9-4536-89E6-B4B9385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6B3FA-D8A9-436C-80B0-18912946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6F1FF-5B3F-4130-A2BB-1860C8CE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056-237F-4D54-84FE-C9E96ACC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7AB0C-032A-449B-8A00-F207F4F0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2C10D-8600-4EE0-8FA4-A055ED97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399AE-ED73-4E95-B761-1A2B5FD3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99155-0828-40F7-9B50-994550C9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D23C9-1252-447A-9147-AE0EBC96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44A97-6104-4D37-849D-4CA5285D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67901-9AB5-4150-ABBD-36F0760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38AC8-2220-463E-B24C-703A2968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C92DF-E849-438A-8460-50D1C218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29FAA-8ED4-4DF5-8493-D28AC48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BDC-03B8-4E9E-A059-03599C22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D7B26-8AA6-4CEC-A69E-E96A3574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F0154-2B31-42D5-8049-287EB477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8291E-268A-47C3-8790-9A611240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9C1-B077-4CD0-B20D-8BE92AB8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AAE-E3B4-46CF-A4E9-A0AF7D2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9EA6-0021-4783-A9C2-961A7A4B5563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caf0a"/>
          </a:solidFill>
          <a:ln w="38160">
            <a:solidFill>
              <a:srgbClr val="ccaf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9DFE-D32F-4627-96F1-B744E54FE182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FA56-3732-45B9-95A6-268A28699806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8BFD-7F75-4A64-9F4D-5C548C39C546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C582-1DCA-4878-87F4-834C8C8E7611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B101-193E-4869-A668-178FC0078580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14880" y="4500720"/>
            <a:ext cx="45482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onstantia"/>
              </a:rPr>
              <a:t>Автор: Нефедов Денис Евгеньевич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"/>
          <p:cNvSpPr/>
          <p:nvPr/>
        </p:nvSpPr>
        <p:spPr>
          <a:xfrm>
            <a:off x="2428920" y="3571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onstantia"/>
              </a:rPr>
              <a:t>Методическая презентаци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28760" y="356760"/>
            <a:ext cx="828648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1d1d"/>
                </a:solidFill>
                <a:uFillTx/>
                <a:latin typeface="Constantia"/>
              </a:rPr>
              <a:t>Основополагающий вопрос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d1d1d"/>
                </a:solidFill>
                <a:latin typeface="Constantia"/>
              </a:rPr>
              <a:t>Куда смотрит вектор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1d1d"/>
                </a:solidFill>
                <a:uFillTx/>
                <a:latin typeface="Constantia"/>
              </a:rPr>
              <a:t>Проблемные вопросы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d1d1d"/>
                </a:solidFill>
                <a:latin typeface="Constantia"/>
              </a:rPr>
              <a:t>1. </a:t>
            </a:r>
            <a:r>
              <a:rPr b="0" i="1" lang="en-US" sz="2600" spc="-1" strike="noStrike">
                <a:solidFill>
                  <a:srgbClr val="1d1d1d"/>
                </a:solidFill>
                <a:latin typeface="Constantia"/>
              </a:rPr>
              <a:t>Сколько векторов до Луны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d1d1d"/>
                </a:solidFill>
                <a:latin typeface="Constantia"/>
              </a:rPr>
              <a:t>2. </a:t>
            </a:r>
            <a:r>
              <a:rPr b="0" i="1" lang="en-US" sz="2600" spc="-1" strike="noStrike">
                <a:solidFill>
                  <a:srgbClr val="1d1d1d"/>
                </a:solidFill>
                <a:latin typeface="Constantia"/>
              </a:rPr>
              <a:t>Как поделиться вектором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d1d1d"/>
                </a:solidFill>
                <a:latin typeface="Constantia"/>
              </a:rPr>
              <a:t>Учебные предметы: математика, физ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d1d1d"/>
                </a:solidFill>
                <a:latin typeface="Constantia"/>
              </a:rPr>
              <a:t>Участники: 8 клас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28400" y="356760"/>
            <a:ext cx="825804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1d1d1d"/>
                </a:solidFill>
                <a:uFillTx/>
                <a:latin typeface="Constantia"/>
              </a:rPr>
              <a:t>Дидактические цели проекта: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d1d1d"/>
                </a:solidFill>
                <a:latin typeface="Constantia"/>
              </a:rPr>
              <a:t>Научить </a:t>
            </a: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строить вектора, находить длину вектора, находить координаты векторов, умножать вектор на число, складывать векторы, разлагать векторы, находить скалярное произведение векторов, находить середины вектора, находить угол между векторами</a:t>
            </a:r>
            <a:r>
              <a:rPr b="0" lang="ru-RU" sz="2900" spc="-1" strike="noStrike">
                <a:solidFill>
                  <a:srgbClr val="1d1d1d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 </a:t>
            </a: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Сформировать навыки самостоятельной работы, работы в команде.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Воспитать организованность, самостоятельность, самоконтроль, ответственность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00040" y="356760"/>
            <a:ext cx="814392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1d1d1d"/>
                </a:solidFill>
                <a:uFillTx/>
                <a:latin typeface="Constantia"/>
              </a:rPr>
              <a:t>Учебные вопросы: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Что такое вектор?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Как найти длину вектора?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Что такое координаты вектора?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Какие векторы называются равными?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Какие операции над векторами существуют?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Чему равен угол между векторами?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28400" y="1642680"/>
            <a:ext cx="82580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d1d1d"/>
                </a:solidFill>
                <a:uFillTx/>
                <a:latin typeface="Constantia"/>
              </a:rPr>
              <a:t>Результаты представления исследований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d1d1d"/>
                </a:solidFill>
                <a:latin typeface="Constantia"/>
              </a:rPr>
              <a:t>Презентация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d1d1d"/>
                </a:solidFill>
                <a:latin typeface="Constantia"/>
              </a:rPr>
              <a:t>Конференция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4:47:47Z</dcterms:created>
  <dc:creator>26534</dc:creator>
  <dc:description/>
  <dc:language>en-US</dc:language>
  <cp:lastModifiedBy>26534</cp:lastModifiedBy>
  <dcterms:modified xsi:type="dcterms:W3CDTF">2010-04-16T04:42:30Z</dcterms:modified>
  <cp:revision>7</cp:revision>
  <dc:subject/>
  <dc:title>Слайд 1</dc:title>
</cp:coreProperties>
</file>